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AF1-992B-4285-B554-E23CF27E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1EC-DE2A-4B12-874C-F6F0132E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C98-10F1-4DE9-B1D7-FE6C2767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9F2-E2D0-4189-9ECD-4A03B604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EFF9-F860-4CEA-AFAE-B30B3F8C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A6FD-548C-4190-A879-9DAA39BB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8292-CB3B-4C4E-A721-E65E074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26FC-6A57-4354-91BA-F99F664F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340-9608-41DD-BFD7-281D758C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A180-6E1D-4092-961E-54F4FF5B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AB8F-F487-401A-A2B5-FCE392D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AC7-D568-448C-9C05-56C8DF3F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697B-48BA-4396-9EF6-C5CED92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6C31-674B-4837-8713-1BAFAD8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EDD7-5DA3-4E32-ADFB-6D95F1E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56E6-BF9A-49E7-B3FE-28E3275D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0541-D8DD-4F92-B8ED-2E1315A1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F58A-F812-45ED-B491-705398CA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4B16-6F92-4660-8DEA-727B4BED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C02C-14EC-47BA-B508-8417EACB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7C57-A6E9-4332-BC84-C886683E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2975-7F1C-43DE-BFDB-54171F25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7F9-41D4-4733-8497-AADD105B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D3C9-30DC-4AD5-A0B2-DE7884C2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56E1-AF58-4784-A9C1-68923E2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33D6-D328-4492-B75D-5E54A9BC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B59C-F231-459B-B0FE-0AD0115A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D3E8-636D-44CF-A30B-7C2032B7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DE9B-25BA-4F48-967D-5682A0E6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2096-AE2A-45C2-B04C-EDB12353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0E1B-2ECD-436C-B82F-977FC248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FBBF-C9EF-48AC-98A4-E91F9E0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BDD9E-C687-4272-A7C6-162B17C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CFB-7541-4A44-A17D-130A558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468D-7A7E-4424-A0E1-4BF1558A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0346-A8CA-4B05-86D3-94577078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A7D7-432F-4049-8453-2D2C330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BC3C-68EC-42DD-8B97-2E36DEB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34D5-9D0E-4B6F-BF38-4CA81A31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AC74-613A-4F4F-8AE6-318D483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E3570-2054-4E83-986B-A46C68CE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B318-B32D-4A1F-9A05-4EF4C492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4FB7-48A8-43C7-A24C-7B75C45C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A72-9731-418B-9BA6-1B8167BF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5D4-F930-4D42-ADE9-ACD6FB8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120-D26A-4F1A-A632-7690512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C99-AD33-497D-A071-D08E14C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AD3-1B16-4288-8D7E-ED1F04E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E33-8E75-4FBE-B328-67CC5BFC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330E-658F-4804-AE50-CA678768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9E45-3A15-4DE7-861C-0D279E5933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EE83-3A1F-45A3-B5AA-60CBF506F7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TOMUL ,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COMPONENTA DE BAZA A MATERI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213372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itatea protonilor din nucleu dau </a:t>
            </a:r>
            <a:r>
              <a:rPr b="0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numărul atomic (Z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a numărului de protoni şi de neutroni se numeşte </a:t>
            </a:r>
            <a:r>
              <a:rPr b="0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număr de masă (A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d1539"/>
                </a:solidFill>
                <a:latin typeface="Times New Roman"/>
                <a:ea typeface="Times New Roman"/>
              </a:rPr>
              <a:t>Învelişul electron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n jurul nucleului, într-o zonă cu diametrul de 10000 de ori mai mare decât al nucleului, gravitează particule elementare încărcate cu sarcină electrică negativă, numite 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ectroni.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344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Totalitatea electronilor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care gravitează în jurul nucleului constituie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învelişul electronic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al atomului.</a:t>
            </a:r>
            <a:br>
              <a:rPr sz="4000"/>
            </a:b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Masa electronului este de 10</a:t>
            </a:r>
            <a:r>
              <a:rPr b="1" lang="ro-RO" sz="4000" spc="-1" strike="noStrike" baseline="30000">
                <a:solidFill>
                  <a:srgbClr val="809ea8"/>
                </a:solidFill>
                <a:latin typeface="Times New Roman"/>
                <a:ea typeface="Times New Roman"/>
              </a:rPr>
              <a:t>4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 ori mai mică decât masa protonului şi se neglijează de la calculul masei atomice.</a:t>
            </a:r>
            <a:br>
              <a:rPr sz="4000"/>
            </a:b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umărul electronilor este egal cu numărul protonilor,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sarcina electrică totală a atomului este zer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0" t="0" r="0" b="22300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35053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 este categoria care desemnează validitatea obiectivă existentă independent de conştiinţă şi reflectată de aceas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le de manifestare ale materiei sunt mişcarea, spaţiul şi timpu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Noţiunea de </a:t>
            </a:r>
            <a:r>
              <a:rPr b="1" lang="ro-RO" sz="4000" spc="-1" strike="noStrike">
                <a:solidFill>
                  <a:srgbClr val="e2c86a"/>
                </a:solidFill>
                <a:latin typeface="Times New Roman"/>
                <a:ea typeface="Times New Roman"/>
              </a:rPr>
              <a:t>atom</a:t>
            </a: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 stă la baza înţelegerii noţiunilor chimice, fapt pentru care este foarte important să se ştie că materia este alcătuită din particule invizibile şi indivizibile - atomii (atomos = indivizibil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09ea8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omul are dimensiuni deosebit de mic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loarea razei atomice este de ordinul 10</a:t>
            </a:r>
            <a:r>
              <a:rPr b="0" lang="ro-RO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0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iar cea a masei 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</a:t>
            </a:r>
            <a:r>
              <a:rPr b="0" lang="ro-RO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că desenăm cu creionul un punct fără a-l îngroşa, în interiorul lui se află 3x10</a:t>
            </a:r>
            <a:r>
              <a:rPr b="0" lang="ro-RO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18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tomi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6705720" cy="6705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	</a:t>
            </a: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portul dintre volumul unei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gi de tenis şi al unui atom este acelaşi cu raportul dintre volumu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ământului şi cel al mingii d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ni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ul este un edificiu complex, fiind alcatuit din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u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nveliş electron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495680" y="22860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dc635"/>
                </a:solidFill>
                <a:latin typeface="Bookman Old Style"/>
              </a:rPr>
              <a:t>	</a:t>
            </a: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În centrul atomului se află </a:t>
            </a:r>
            <a:r>
              <a:rPr b="1" lang="ro-RO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ul</a:t>
            </a: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, iar în spaţiul învecina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(învelişul electronic) electronii gravitează în jurul nucleul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dc635"/>
                </a:solidFill>
                <a:latin typeface="Times New Roman"/>
                <a:ea typeface="Times New Roman"/>
              </a:rPr>
              <a:t>(ca şi planetele în jurul Soarelui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2280" y="228600"/>
            <a:ext cx="899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d1539"/>
                </a:solidFill>
                <a:latin typeface="Times New Roman"/>
                <a:ea typeface="Times New Roman"/>
              </a:rPr>
              <a:t>Nucleul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zintă o stabilitate mare şi nu se modifică în timpul proceselor  chim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ul conţine particule elementare numite nucleoni (protoni şi neutroni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0" r="52962" b="0"/>
          <a:stretch/>
        </p:blipFill>
        <p:spPr>
          <a:xfrm>
            <a:off x="1492200" y="3429000"/>
            <a:ext cx="2416320" cy="3124080"/>
          </a:xfrm>
          <a:prstGeom prst="rect">
            <a:avLst/>
          </a:prstGeom>
          <a:ln w="9360">
            <a:solidFill>
              <a:srgbClr val="99ff99"/>
            </a:solidFill>
            <a:miter/>
          </a:ln>
        </p:spPr>
      </p:pic>
      <p:sp>
        <p:nvSpPr>
          <p:cNvPr id="385" name=""/>
          <p:cNvSpPr/>
          <p:nvPr/>
        </p:nvSpPr>
        <p:spPr>
          <a:xfrm>
            <a:off x="4572000" y="3352680"/>
            <a:ext cx="34290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The nucleus of a nitrogen atom."/>
          <p:cNvPicPr/>
          <p:nvPr/>
        </p:nvPicPr>
        <p:blipFill>
          <a:blip r:embed="rId2"/>
          <a:stretch/>
        </p:blipFill>
        <p:spPr>
          <a:xfrm>
            <a:off x="5029200" y="3505320"/>
            <a:ext cx="2514600" cy="2485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62520" y="4648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py</cp:lastModifiedBy>
  <dcterms:modified xsi:type="dcterms:W3CDTF">2009-09-21T14:53:25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